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B55-5F71-402D-8F36-8FE7AB4F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AB0-D6B4-4A97-9774-D12E0B84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A9D-D6C7-4B2D-878E-0D3AA42C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613-5B45-4E29-9ECD-6D611FE3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1631-7F32-4F42-A431-BB3FCEC4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DF80-A73B-455D-9ECA-00C57859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F685-1F14-4DEE-99BC-A5F9DE79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DC8B-096E-4C50-903F-D9247B99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A165-9F9E-48C1-86B8-7BFE2F83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E832-D4EC-474A-9560-A780CBC2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9121-4718-4341-92CC-2209269C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41F-2CF7-48DD-9069-873A560D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02A8-1996-4507-95A8-18C39449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C107-11A4-429C-AC85-FA4138C9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F1B5-25E0-4A90-A8B4-4C72DDA0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3BEF-44CD-4AA4-9CF3-A52E09DE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F92E-659E-48F0-BACC-839B2440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DBFD6-6937-49DC-9539-138EBBF1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9D04F-07EA-4549-9B3C-2F2F4EB3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5643F-F404-40A7-B3CF-F895F78B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ECC3D-3014-48A4-B066-11F1E24D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D7F22-7B17-4550-9F9A-C6881D46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461-8FDA-49AE-ABB7-B6800FD0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BADF1-B902-4B89-B6AA-1CBAE180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BF0CD-E38C-47AD-9408-58DF5030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F3D68-1198-4FF9-9EF2-CA3DBE52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E20CC-D0BF-4013-A054-7B94CAEA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EB73E-6818-4BF1-87D7-FB150FAC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21F97-7115-42A8-9DED-7DDDAFA8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617EF-39C1-4AC4-A809-DDB276FB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0A97-AEB3-48E1-8157-86542327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558-A332-475D-8553-E35CBC34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2FC-F229-4B88-822A-624A7AD8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C53-4E2C-4E62-BA1C-4C1376D4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D835-1CB2-4F6D-920A-6D462D02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AEF-2B3D-47B1-BBBA-6BFB3572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0CA2-C9F7-49ED-9E2D-C7FFB491D47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E383-A342-4B6C-9009-59DE24F05B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9F97-52E7-4ABA-8090-59B96873790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92000" y="260280"/>
            <a:ext cx="5256360" cy="165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The ENGLISH TENS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826920" y="2565360"/>
            <a:ext cx="6985080" cy="2305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The</a:t>
            </a:r>
            <a:r>
              <a:rPr b="1" lang="en-US" sz="6000" spc="-1" strike="noStrike">
                <a:solidFill>
                  <a:srgbClr val="00b200"/>
                </a:solidFill>
                <a:latin typeface="Bookman Old Style"/>
              </a:rPr>
              <a:t> PRESENT PERFECT </a:t>
            </a: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ten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5) to present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new information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5020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987640" y="5589720"/>
            <a:ext cx="55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Wow! I’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ve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got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 a 5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j0397482"/>
          <p:cNvPicPr/>
          <p:nvPr/>
        </p:nvPicPr>
        <p:blipFill>
          <a:blip r:embed="rId1"/>
          <a:stretch/>
        </p:blipFill>
        <p:spPr>
          <a:xfrm>
            <a:off x="684360" y="1557360"/>
            <a:ext cx="41749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new infor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76720" y="2421000"/>
            <a:ext cx="3672000" cy="34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police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have arreste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wo men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4" descr="j0398331"/>
          <p:cNvPicPr/>
          <p:nvPr/>
        </p:nvPicPr>
        <p:blipFill>
          <a:blip r:embed="rId1"/>
          <a:stretch/>
        </p:blipFill>
        <p:spPr>
          <a:xfrm>
            <a:off x="755640" y="1341360"/>
            <a:ext cx="4145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7848360" cy="11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6). “</a:t>
            </a:r>
            <a:r>
              <a:rPr b="1" i="1" lang="en-US" sz="3600" spc="-1" strike="noStrike">
                <a:solidFill>
                  <a:srgbClr val="ff9900"/>
                </a:solidFill>
                <a:latin typeface="Comic Sans MS"/>
              </a:rPr>
              <a:t>It is the (first) time</a:t>
            </a: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 smth.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has happened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3280" y="2133360"/>
            <a:ext cx="41054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It is the (first) time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ave won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lotery!”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32796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j0424464"/>
          <p:cNvPicPr/>
          <p:nvPr/>
        </p:nvPicPr>
        <p:blipFill>
          <a:blip r:embed="rId1"/>
          <a:stretch/>
        </p:blipFill>
        <p:spPr>
          <a:xfrm>
            <a:off x="539640" y="1700280"/>
            <a:ext cx="3664080" cy="38894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395280" y="1557360"/>
            <a:ext cx="82090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134200" cy="25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Comic Sans MS"/>
              </a:rPr>
              <a:t>7). With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state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Comic Sans MS"/>
              </a:rPr>
              <a:t> verbs instead of Continuou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9900"/>
                </a:solidFill>
                <a:latin typeface="Comic Sans MS"/>
              </a:rPr>
              <a:t>be, dislike, enjoy, feel, hate, hear, know, like, prefer, remember, see, smell, taste,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et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5589720"/>
            <a:ext cx="705636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4200" spc="-1" strike="noStrike">
                <a:solidFill>
                  <a:srgbClr val="ff0000"/>
                </a:solidFill>
                <a:latin typeface="Comic Sans MS"/>
              </a:rPr>
              <a:t>have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 always </a:t>
            </a:r>
            <a:r>
              <a:rPr b="1" lang="en-US" sz="4200" spc="-1" strike="noStrike">
                <a:solidFill>
                  <a:srgbClr val="ff0000"/>
                </a:solidFill>
                <a:latin typeface="Comic Sans MS"/>
              </a:rPr>
              <a:t>liked 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this film</a:t>
            </a: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»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7" descr="j0397436"/>
          <p:cNvPicPr/>
          <p:nvPr/>
        </p:nvPicPr>
        <p:blipFill>
          <a:blip r:embed="rId1"/>
          <a:stretch/>
        </p:blipFill>
        <p:spPr>
          <a:xfrm>
            <a:off x="1763640" y="3195720"/>
            <a:ext cx="5113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92000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The Present Perfect is used with the following </a:t>
            </a:r>
            <a:r>
              <a:rPr b="1" lang="en-US" sz="3600" spc="-1" strike="noStrike" u="sng">
                <a:solidFill>
                  <a:srgbClr val="ff9900"/>
                </a:solidFill>
                <a:uFillTx/>
                <a:latin typeface="Comic Sans MS"/>
              </a:rPr>
              <a:t>time expressions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79640" y="1557360"/>
            <a:ext cx="648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ju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alway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already (+)/ yet (-;?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ever/ nev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si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lately/ recent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324000" y="476280"/>
          <a:ext cx="7993080" cy="5718240"/>
        </p:xfrm>
        <a:graphic>
          <a:graphicData uri="http://schemas.openxmlformats.org/drawingml/2006/table">
            <a:tbl>
              <a:tblPr/>
              <a:tblGrid>
                <a:gridCol w="2447640"/>
                <a:gridCol w="2737080"/>
                <a:gridCol w="280836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gular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ast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ast </a:t>
                      </a: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a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ash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ash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liev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liev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liev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i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i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l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lay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lay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p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pe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pe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n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n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n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G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G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539640" y="404640"/>
          <a:ext cx="7983720" cy="6212160"/>
        </p:xfrm>
        <a:graphic>
          <a:graphicData uri="http://schemas.openxmlformats.org/drawingml/2006/table">
            <a:tbl>
              <a:tblPr/>
              <a:tblGrid>
                <a:gridCol w="1798920"/>
                <a:gridCol w="3025440"/>
                <a:gridCol w="315936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regular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st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st </a:t>
                      </a: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g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g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g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u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ea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ea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o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iv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o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u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o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u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rnt (learne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rn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learne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Oval 4"/>
          <p:cNvSpPr/>
          <p:nvPr/>
        </p:nvSpPr>
        <p:spPr>
          <a:xfrm>
            <a:off x="1403280" y="476280"/>
            <a:ext cx="6193080" cy="5689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Bookman Old Style"/>
                <a:ea typeface="MS Mincho"/>
              </a:rPr>
              <a:t>PRES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Bookman Old Style"/>
                <a:ea typeface="MS Mincho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Bookman Old Style"/>
                <a:ea typeface="MS Mincho"/>
              </a:rPr>
              <a:t>PERFECT</a:t>
            </a:r>
            <a:r>
              <a:rPr b="1" lang="en-US" sz="48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have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        </a:t>
            </a: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+ V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Bookman Old Style"/>
                <a:ea typeface="MS Mincho"/>
              </a:rPr>
              <a:t>I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has</a:t>
            </a:r>
            <a:r>
              <a:rPr b="1" lang="en-US" sz="48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16000" y="980640"/>
            <a:ext cx="6840720" cy="45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7200" spc="-1" strike="noStrike">
                <a:solidFill>
                  <a:srgbClr val="00b200"/>
                </a:solidFill>
                <a:latin typeface="Comic Sans MS"/>
              </a:rPr>
              <a:t>PRESENT PERFECT tense</a:t>
            </a: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is used: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1) to express a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present </a:t>
            </a:r>
            <a:br>
              <a:rPr sz="4000"/>
            </a:b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RESULT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of the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past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actions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95280" y="4941360"/>
            <a:ext cx="576108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asn’t do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his homework”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9" descr="Копия 119"/>
          <p:cNvPicPr/>
          <p:nvPr/>
        </p:nvPicPr>
        <p:blipFill>
          <a:blip r:embed="rId1"/>
          <a:stretch/>
        </p:blipFill>
        <p:spPr>
          <a:xfrm>
            <a:off x="900000" y="1700280"/>
            <a:ext cx="7129440" cy="31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63640" y="5444640"/>
            <a:ext cx="712944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has picke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a lot of appl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4" descr="Копия Изображение 001"/>
          <p:cNvPicPr/>
          <p:nvPr/>
        </p:nvPicPr>
        <p:blipFill>
          <a:blip r:embed="rId1"/>
          <a:stretch/>
        </p:blipFill>
        <p:spPr>
          <a:xfrm>
            <a:off x="2716200" y="1341360"/>
            <a:ext cx="3646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137440" cy="77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2) to expres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life experience</a:t>
            </a:r>
            <a:r>
              <a:rPr b="1" i="1" lang="en-US" sz="4000" spc="-1" strike="noStrike" u="sng">
                <a:solidFill>
                  <a:srgbClr val="009900"/>
                </a:solidFill>
                <a:uFillTx/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cc"/>
                </a:solidFill>
                <a:latin typeface="Comic Sans MS"/>
              </a:rPr>
              <a:t>(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ever, never</a:t>
            </a:r>
            <a:r>
              <a:rPr b="1" i="1" lang="en-US" sz="40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003640" y="2565360"/>
            <a:ext cx="3592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4000" spc="-1" strike="noStrike">
                <a:solidFill>
                  <a:srgbClr val="009900"/>
                </a:solidFill>
                <a:latin typeface="Comic Sans MS"/>
              </a:rPr>
              <a:t>Have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ever </a:t>
            </a:r>
            <a:r>
              <a:rPr b="1" i="1" lang="en-US" sz="4000" spc="-1" strike="noStrike">
                <a:solidFill>
                  <a:srgbClr val="009900"/>
                </a:solidFill>
                <a:latin typeface="Comic Sans MS"/>
              </a:rPr>
              <a:t>been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a chil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118"/>
          <p:cNvPicPr/>
          <p:nvPr/>
        </p:nvPicPr>
        <p:blipFill>
          <a:blip r:embed="rId1"/>
          <a:stretch/>
        </p:blipFill>
        <p:spPr>
          <a:xfrm>
            <a:off x="395280" y="1484280"/>
            <a:ext cx="46083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3) to expres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unfinished past </a:t>
            </a: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(</a:t>
            </a:r>
            <a:r>
              <a:rPr b="1" i="1" lang="en-US" sz="4000" spc="-1" strike="noStrike" u="sng">
                <a:solidFill>
                  <a:srgbClr val="ff9900"/>
                </a:solidFill>
                <a:uFillTx/>
                <a:latin typeface="Comic Sans MS"/>
              </a:rPr>
              <a:t>since, recently, for</a:t>
            </a: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)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908000" y="5300280"/>
            <a:ext cx="6948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have bee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friends </a:t>
            </a: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for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20 year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5812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Изображение 001"/>
          <p:cNvPicPr/>
          <p:nvPr/>
        </p:nvPicPr>
        <p:blipFill>
          <a:blip r:embed="rId1"/>
          <a:stretch/>
        </p:blipFill>
        <p:spPr>
          <a:xfrm>
            <a:off x="1116000" y="1484280"/>
            <a:ext cx="633744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20000" cy="18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4) 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to express a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AST action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, period of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ime isn’t finished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cc"/>
                </a:solidFill>
                <a:latin typeface="Comic Sans MS"/>
              </a:rPr>
              <a:t>(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already, just, yet, this year</a:t>
            </a:r>
            <a:r>
              <a:rPr b="1" i="1" lang="en-US" sz="4000" spc="-1" strike="noStrike">
                <a:solidFill>
                  <a:srgbClr val="0000cc"/>
                </a:solidFill>
                <a:latin typeface="Comic Sans MS"/>
              </a:rPr>
              <a:t>)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7" descr="120"/>
          <p:cNvPicPr/>
          <p:nvPr/>
        </p:nvPicPr>
        <p:blipFill>
          <a:blip r:embed="rId1"/>
          <a:stretch/>
        </p:blipFill>
        <p:spPr>
          <a:xfrm>
            <a:off x="1332000" y="2060640"/>
            <a:ext cx="4222800" cy="4464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5796000" y="2852640"/>
            <a:ext cx="2832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ave 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alread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ha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ix cakes!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AST </a:t>
            </a: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action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,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ime isn’t finish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18920" y="5229360"/>
            <a:ext cx="7273800" cy="104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ave bee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o the circus twice 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this week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119"/>
          <p:cNvPicPr/>
          <p:nvPr/>
        </p:nvPicPr>
        <p:blipFill>
          <a:blip r:embed="rId1"/>
          <a:stretch/>
        </p:blipFill>
        <p:spPr>
          <a:xfrm>
            <a:off x="611280" y="1844640"/>
            <a:ext cx="75610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02:20:19Z</dcterms:created>
  <dc:creator>Нина Ивановна</dc:creator>
  <dc:description/>
  <dc:language>en-US</dc:language>
  <cp:lastModifiedBy>Compte Microsoft</cp:lastModifiedBy>
  <dcterms:modified xsi:type="dcterms:W3CDTF">2022-03-29T18:17:16Z</dcterms:modified>
  <cp:revision>96</cp:revision>
  <dc:subject/>
  <dc:title>Слайд 1</dc:title>
</cp:coreProperties>
</file>